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2553-971F-4326-9551-97A407A3C1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51EE-D29C-425A-BD97-942813AA0A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1368-3912-4281-9423-75D28A54DF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22E8-9624-42FC-8DD6-7844E43F86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A289-D8AD-4F24-970B-BC3E1D33E8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56E4-EFA0-4D55-A095-F9B297C346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FB84-DD5F-4C68-9322-6B1FD6B419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75D5-F9C1-4AB6-AB29-151D4D2936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1B18-5249-4F30-A9DA-C59F25140D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AEF-75CD-4AB0-A36E-9F0089B03C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02F-BD12-47AB-B6DF-59015EDAB5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3DCA-FDC5-40DE-A8D1-AF98CB2AD5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7056-00CC-4806-A9D9-3256D7AB78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3EEC-C200-43A0-B415-7A500E5CD0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1F1-7E63-4430-A430-1F895DD2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B0E-EAD8-438F-A31C-24CD8140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8A6-41C3-4F62-BC91-7EEEFB1F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8B1-3AFE-4C17-ABFC-98B8A697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009-4CBE-4CA1-A5F6-A3E5957F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B79-CB0E-4ED7-892C-98CB5009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A8E-63D9-4417-AA51-2FDF9270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9A3-9D5C-4F71-8D0C-48731F87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3A2-831A-4F6B-8D1B-95172FF2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84C-A04F-4365-990E-6BE3E4D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60A-AA6E-4358-90DF-07E9484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AB5-430B-49A5-95C0-88CF381F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31AA-64DC-4C95-99B8-6ACAA27500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5" descr="20061205_a71201"/>
          <p:cNvPicPr/>
          <p:nvPr/>
        </p:nvPicPr>
        <p:blipFill>
          <a:blip r:embed="rId1"/>
          <a:srcRect l="0" t="0" r="0" b="4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042920" y="1125360"/>
            <a:ext cx="698508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gfaRotisSerif"/>
              </a:rPr>
              <a:t>Unit 1 Big or sm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2268360" y="404640"/>
            <a:ext cx="48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巧记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</a:rPr>
              <a:t>be</a:t>
            </a: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动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908000" y="1628640"/>
            <a:ext cx="54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我用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</a:rPr>
              <a:t>am</a:t>
            </a: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，你用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</a:rPr>
              <a:t>are</a:t>
            </a: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faRotisSerif"/>
              </a:rPr>
              <a:t>is</a:t>
            </a: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用于他、她、它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单数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</a:rPr>
              <a:t>is</a:t>
            </a: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，复数</a:t>
            </a:r>
            <a:r>
              <a:rPr b="1" lang="en-US" sz="4400" spc="-1" strike="noStrike">
                <a:solidFill>
                  <a:srgbClr val="000000"/>
                </a:solidFill>
                <a:latin typeface="AgfaRotisSerif"/>
              </a:rPr>
              <a:t>are</a:t>
            </a: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gfaRotisSerif"/>
              </a:rPr>
              <a:t>我们一起记住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116000" y="26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词成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71640" y="981000"/>
            <a:ext cx="5832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1. happy         are           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____________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2. is            she            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____________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3. happy          are         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_____________________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4. are            they            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____________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547640" y="15573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We are 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619280" y="2852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She is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619280" y="4076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Are you 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19280" y="53737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They are 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755640" y="1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55640" y="907920"/>
            <a:ext cx="6912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(     ) 1. Are you happy?  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A. Yes, I am.    B. Yes, you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(     ) 2. Jenny ______ s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A. am          B. is         C.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(     ) 3. The elephants _______ b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A. am          B. is          C.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(     ) 4. We _____ big. They _____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A. am, are       B. are,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7164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971640" y="22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42920" y="35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4292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0061205_397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2124000" y="620640"/>
            <a:ext cx="49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Goodbye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gifmb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92360" y="1341360"/>
            <a:ext cx="5184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gfaRotisSerif"/>
              </a:rPr>
              <a:t>    </a:t>
            </a:r>
            <a:r>
              <a:rPr b="1" lang="en-US" sz="4800" spc="-1" strike="noStrike">
                <a:solidFill>
                  <a:srgbClr val="0000ff"/>
                </a:solidFill>
                <a:latin typeface="AgfaRotisSerif"/>
              </a:rPr>
              <a:t>Gam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gfaRotisSerif"/>
              </a:rPr>
              <a:t>Do the actions and guess the wor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ASUS\Desktop\单元优备（课件和教案）\u2pic\01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ASUS\Desktop\单元优备（课件和教案）\u2pic\a1.png"/>
          <p:cNvPicPr/>
          <p:nvPr/>
        </p:nvPicPr>
        <p:blipFill>
          <a:blip r:embed="rId2"/>
          <a:stretch/>
        </p:blipFill>
        <p:spPr>
          <a:xfrm>
            <a:off x="2000160" y="2214720"/>
            <a:ext cx="3278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ASUS\Desktop\单元优备（课件和教案）\u2pic\02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ASUS\Desktop\单元优备（课件和教案）\u2pic\a2.png"/>
          <p:cNvPicPr/>
          <p:nvPr/>
        </p:nvPicPr>
        <p:blipFill>
          <a:blip r:embed="rId2"/>
          <a:stretch/>
        </p:blipFill>
        <p:spPr>
          <a:xfrm>
            <a:off x="3500280" y="857160"/>
            <a:ext cx="36180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826920" y="0"/>
            <a:ext cx="6191280" cy="66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知识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happy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的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反义词 是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s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tall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的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反义词 是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hot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的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反义词 是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big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的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反义词 是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的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复数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am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的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复数是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的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复数是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she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的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复数是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的 </a:t>
            </a:r>
            <a:r>
              <a:rPr b="1" lang="zh-CN" sz="3600" spc="-1" strike="noStrike">
                <a:solidFill>
                  <a:srgbClr val="ff3300"/>
                </a:solidFill>
                <a:latin typeface="AgfaRotisSerif"/>
              </a:rPr>
              <a:t>复数是</a:t>
            </a:r>
            <a:r>
              <a:rPr b="1" lang="zh-CN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gfaRotisSerif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G:\contents\data\practice\lj002\00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296856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8010360" y="3348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736092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43480" y="337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ifmb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476360" y="1052640"/>
            <a:ext cx="590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gfaRotisSerif"/>
              </a:rPr>
              <a:t>写出下列单词的反义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1. sad  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2. tall  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3. ho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gfaRotisSerif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_______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gfaRotisSerif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4. big  </a:t>
            </a:r>
            <a:r>
              <a:rPr b="1" lang="en-US" sz="1800" spc="-1" strike="noStrike">
                <a:solidFill>
                  <a:srgbClr val="000000"/>
                </a:solidFill>
                <a:latin typeface="AgfaRotisSerif"/>
              </a:rPr>
              <a:t>__________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62520" y="191628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gfaRotisSerif"/>
              </a:rPr>
              <a:t>happy</a:t>
            </a:r>
            <a:r>
              <a:rPr b="1" lang="en-US" sz="3600" spc="-1" strike="noStrike">
                <a:solidFill>
                  <a:srgbClr val="000000"/>
                </a:solidFill>
                <a:latin typeface="AgfaRotisSerif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964960" y="2708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gfaRotisSerif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069360" y="342900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gfaRotisSerif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061080" y="4221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gfaRotisSerif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1258920" y="258840"/>
            <a:ext cx="6913440" cy="56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下列单词的分写或者缩写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I’m =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you’re = 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he’s =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we’re =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they are =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she is =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Tony is =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gfaRotisSerif"/>
              </a:rPr>
              <a:t>Jenny’s =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161520" y="79524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faRotisSerif"/>
              </a:rPr>
              <a:t>I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253680" y="137160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faRotisSerif"/>
              </a:rPr>
              <a:t>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39280" y="2060640"/>
            <a:ext cx="11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faRotisSerif"/>
              </a:rPr>
              <a:t>h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57640" y="263844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faRotisSerif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605760" y="324324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faRotisSerif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725640" y="3963960"/>
            <a:ext cx="11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faRotisSerif"/>
              </a:rPr>
              <a:t>sh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724200" y="453852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faRotisSerif"/>
              </a:rPr>
              <a:t>Tony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660120" y="515772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faRotisSerif"/>
              </a:rPr>
              <a:t>Jenny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539640" y="260280"/>
            <a:ext cx="7993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is/ am /are </a:t>
            </a: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的用法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:I </a:t>
            </a: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am , you </a:t>
            </a: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are, he/she/it</a:t>
            </a: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is,we/you/they</a:t>
            </a: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或两人以上 用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908000" y="1628640"/>
            <a:ext cx="482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I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gfaRotisSerif"/>
              </a:rPr>
              <a:t>_____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You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gfaRotisSerif"/>
              </a:rPr>
              <a:t>______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s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gfaRotisSerif"/>
              </a:rPr>
              <a:t>_____</a:t>
            </a: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heavy</a:t>
            </a: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（重的）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S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gfaRotisSerif"/>
              </a:rPr>
              <a:t>_____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light</a:t>
            </a:r>
            <a:r>
              <a:rPr b="1" lang="zh-CN" sz="2800" spc="-1" strike="noStrike">
                <a:solidFill>
                  <a:srgbClr val="000000"/>
                </a:solidFill>
                <a:latin typeface="AgfaRotisSerif"/>
              </a:rPr>
              <a:t>（轻的）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It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gfaRotisSerif"/>
              </a:rPr>
              <a:t>____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W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gfaRotisSerif"/>
              </a:rPr>
              <a:t>_____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b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You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gfaRotisSerif"/>
              </a:rPr>
              <a:t>_____</a:t>
            </a: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h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gfaRotis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They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gfaRotisSerif"/>
              </a:rPr>
              <a:t>_____</a:t>
            </a:r>
            <a:r>
              <a:rPr b="1" lang="en-US" sz="2800" spc="-1" strike="noStrike">
                <a:solidFill>
                  <a:srgbClr val="000000"/>
                </a:solidFill>
                <a:latin typeface="AgfaRotisSerif"/>
              </a:rPr>
              <a:t>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771640" y="1628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76720" y="2133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132000" y="2781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03640" y="328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916360" y="3860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132000" y="443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20364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3276720" y="5516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gfaRotisSerif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3:25:01Z</dcterms:created>
  <dc:creator/>
  <dc:description/>
  <dc:language>en-US</dc:language>
  <cp:lastModifiedBy/>
  <dcterms:modified xsi:type="dcterms:W3CDTF">2016-12-30T03:25:50Z</dcterms:modified>
  <cp:revision>1</cp:revision>
  <dc:subject/>
  <dc:title/>
</cp:coreProperties>
</file>